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678-D97F-47BB-9742-8885CD6A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1D2-50C4-4DCE-87BA-E66401C3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BB4-2E83-495F-8160-275F684B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B4CB-8398-43C0-8C50-008439B5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888-D148-4A8A-BF20-932BFE82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A49-73AF-4FF6-AEA0-9B84D323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0F14-F44B-476A-8805-3B0846C6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94B8-0AB9-4C26-930B-00C612D0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4E3-0D15-4022-B496-EFB7E632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FBCB-62AD-4D7D-804F-E6AF19E2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21C-3BD4-4668-91FD-84E7C98D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D9FA-382E-4359-AA4D-6C8EBB71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B6A8-1F48-4C60-B8FD-E1E55A1FB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ms.hhs.gov/EmpGrpWWaivers/" TargetMode="External"/><Relationship Id="rId2" Type="http://schemas.openxmlformats.org/officeDocument/2006/relationships/hyperlink" Target="http://www.cms.hhs.gov/EmpGrpWWaivers/" TargetMode="External"/><Relationship Id="rId3" Type="http://schemas.openxmlformats.org/officeDocument/2006/relationships/hyperlink" Target="http://www.cms.hhs.gov/EmpGrpWWaivers/" TargetMode="External"/><Relationship Id="rId4" Type="http://schemas.openxmlformats.org/officeDocument/2006/relationships/hyperlink" Target="http://www.cms.hhs.gov/EmpGrpWWaivers/" TargetMode="External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ms.hhs.gov/EmpGrp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Waivers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EmployerWaivers@cms.hhs.g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5:55:51Z</dcterms:created>
  <dc:creator>CMS</dc:creator>
  <dc:description/>
  <dc:language>en-US</dc:language>
  <cp:lastModifiedBy>CMS</cp:lastModifiedBy>
  <dcterms:modified xsi:type="dcterms:W3CDTF">2006-01-23T22:02:26Z</dcterms:modified>
  <cp:revision>2</cp:revision>
  <dc:subject/>
  <dc:title>http://www.cms.hhs.gov/EmpGrp Waivers/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12876303</vt:r8>
  </property>
  <property fmtid="{D5CDD505-2E9C-101B-9397-08002B2CF9AE}" pid="3" name="_AuthorEmail">
    <vt:lpwstr>Duva.Clyburn@cms.hhs.gov</vt:lpwstr>
  </property>
  <property fmtid="{D5CDD505-2E9C-101B-9397-08002B2CF9AE}" pid="4" name="_AuthorEmailDisplayName">
    <vt:lpwstr>Clyburn, Duva L. (CMS/CBC)</vt:lpwstr>
  </property>
  <property fmtid="{D5CDD505-2E9C-101B-9397-08002B2CF9AE}" pid="5" name="_EmailSubject">
    <vt:lpwstr>Postings for the 1/31 broadcast</vt:lpwstr>
  </property>
  <property fmtid="{D5CDD505-2E9C-101B-9397-08002B2CF9AE}" pid="6" name="_NewReviewCycle">
    <vt:lpwstr/>
  </property>
</Properties>
</file>